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455F-6ACB-4597-9825-BA4525C83E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литика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1AC8-3AFE-42E2-9A65-C3F8E3AC60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литика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государственных мероприятий по использованию финансовых отношений для выполнения государством своих фу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1AA4-C737-4674-AF25-EEA785B03C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П охватывает комплекс мероприят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разработка общей концепции финансовой политики, определение ее основных направлений, целей, глав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управление финансовой деятельностью государства и других субъектов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684C-7E69-41A5-B55F-180DF9D3BB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финансов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условий для формирования максимально возможных финансовых усло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ционального (с точки зрения государства) распределения и использования финансовы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егулирования и стимулирования экономических и социальных процессов финансовыми метод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финансового механ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системы управления финансам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FC7A-FD7C-4194-B8A0-9F764A59AC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механиз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ивный финансовый механ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ий финансовый меха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27D0-8521-43BA-A309-94C946D6B8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финансов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консерватив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о – директив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6798-1468-49A4-A469-F8A4AB9E1E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нансовая политика на современном этап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алоговой нагруз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ие государственных обязатель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нтрация финансовых ресурсов на решении приоритет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зависимости бюджетных доходов от конъюнктуры мировых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системы межбюджетных отношений и управление государственными финанс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EBC0-D9ED-45EC-B8A4-4AAA9CD658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2A3-3F58-4982-A4C9-372EC146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4491-2E4B-4B2F-8DCD-6374BA7C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277-FA43-4E23-B3AE-7CDF6C2E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6F93-8AA5-4B56-8543-D9DF49CA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6375-3C2C-493D-B028-DB873D3E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597-041B-478D-9AEE-74D48DDC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1D84-D3DC-44D5-94F0-B818C5AE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AC6-F825-4E36-8BCA-18EC92EE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606-E27C-472B-B7D0-3C5330B2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6F2-4C64-4AD6-ABE3-5300BD3E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58A7-EC78-4DA6-A17F-B957E6A0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EBB-8DD9-4F2C-86A6-48B7E612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B089-ECC7-4888-91E7-88D46AB5B4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политика государ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политик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мероприятий по использованию финансовых отношений для выполнения государством своих фун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П охватывает комплекс мероприят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разработка общей концепции финансовой политики, определение ее основных направлений, целей, главных за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управление финансовой деятельностью государства и других субъектов эконо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финансовой полит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словий для формирования максимально возможных финансовых усло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рационального (с точки зрения государства) распределения и использования финансов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регулирования и стимулирования экономических и социальных процессов финансовыми метод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ботка финансового механ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эффективной системы управления финансам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ый механиз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рективный финансовый механиз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улирующий финансовый механ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финансовой полит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консерватив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ово – директив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овая политика на современном этап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налоговой нагруз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орядочение государственных обязатель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центрация финансовых ресурсов на решении приоритетны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зависимости бюджетных доходов от конъюнктуры мировых ц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эффективной системы межбюджетных отношений и управление государственными финан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1:46:37Z</dcterms:created>
  <dc:creator>eryabova</dc:creator>
  <dc:description/>
  <dc:language>en-US</dc:language>
  <cp:lastModifiedBy>LEGION</cp:lastModifiedBy>
  <dcterms:modified xsi:type="dcterms:W3CDTF">2014-11-10T10:50:40Z</dcterms:modified>
  <cp:revision>7</cp:revision>
  <dc:subject/>
  <dc:title>Финансовая политика государства</dc:title>
</cp:coreProperties>
</file>